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8265-E817-40BB-9C21-3721B253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FB29-8B7D-40F6-BFA3-0CA40E1B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CA73-DFC4-4577-8CDD-9BCB37F0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6A0D-AEA0-468D-8D20-BCC71C6B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3469-7613-4C75-A5A6-60386D9C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38C8-BEBB-434D-A6AF-BA7FC4BA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7D8E-0A85-46F8-9BFD-9B567AA7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CA56-7B2A-4D1E-AC9B-0197B360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B843-A8F8-443D-9AE6-1A826FEC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7524-8B1B-421D-A3AB-EC1174B7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5FD0-79D0-4716-8FFF-E8AFE4F0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1EB3-FD63-48FA-B173-CB26ACAB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45C8-18D8-4E41-9ACE-77CB4396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8EC9-AD11-4A2D-BC73-1488B987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5583-EF24-49D1-B259-2A49662E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016C-F2D6-41E6-8B5D-B19162CB6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7810-9EAE-4688-9DE0-726F3E77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A047-F340-4628-8EA9-FFADD18B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6B96-AE66-4D75-A11D-8514021B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EFE0-997E-43E2-9F8E-EE75B12F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F08-5EFF-4381-9BDC-8A3973C6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7C74-B12C-4EA7-B9B2-B6BCB6A0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63B8-9A24-4D2C-BDC6-C1129720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5B08-59DF-4819-AF91-F7F7A8DE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D720-B528-4951-8999-4DF23FEA22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51B2-4679-4343-8A3C-E0D14F370E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7315200" cy="18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 Tell The Good News”</a:t>
            </a:r>
            <a:br>
              <a:rPr sz="44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rter 12, Lesson 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ges 121-25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iew of Paul’s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0671-376A-4BA9-89E3-A8C14B3C816C}" type="slidenum">
              <a:t>1</a:t>
            </a:fld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8487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ummary of Romans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01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ritten from Corinth in the winter of A.D. 5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theme of the book 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78240" indent="-340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gospel is the power of God unto salv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8240" indent="-340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d’s plan for righteousness is in the gospel and is for everybod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8240" indent="-340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Jews were condemned by the la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8240" indent="-340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ristians are justified by faith in Chri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67680" indent="-28764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Jews were rejected because of unbelief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967680" indent="-28764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Gentiles were accepted because of belief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78240" indent="-340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d’s grace demands responsibility for si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8240" indent="-340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Christian dedicates his life to G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7FB0-1478-4375-BCB6-BC37E493F4C6}" type="slidenum">
              <a:t>10</a:t>
            </a:fld>
          </a:p>
        </p:txBody>
      </p:sp>
    </p:spTree>
  </p:cSld>
  <p:transition>
    <p:cover dir="r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8487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aul Travels To Jerusalem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wanted to make Jerusalem by Penteco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fter 3 months in Corinth he sailed to Tro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 left with the gift and with several compan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rom Troas he went to Milet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 met with the elders from Ephes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s ship landed at Tyre where he was warned not to go to Jerusal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 reached Caesarea and was warned ag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 arrived in Jerusalem and was warmly received by the breth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C919-BD70-413E-BDCA-CC944B6E6A6A}" type="slidenum">
              <a:t>11</a:t>
            </a:fld>
          </a:p>
        </p:txBody>
      </p:sp>
    </p:spTree>
  </p:cSld>
  <p:transition>
    <p:cover dir="r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8487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Trouble Arises In Jerusalem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nbelieving Jews from Asia stirred up the crowd into a riot sce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chief captain of the Roman guard rescued Paul, but bound him with chai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 was granted permission to speak to the mob; he spoke in their dialec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mob was enraged again when he spoke of being sent to the Genti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claimed his Roman citizenshi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F84A-06B9-4A84-B8E5-8398BD32DA70}" type="slidenum">
              <a:t>12</a:t>
            </a:fld>
          </a:p>
        </p:txBody>
      </p:sp>
    </p:spTree>
  </p:cSld>
  <p:transition>
    <p:cover dir="r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8487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aul’s Many Defenses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fore The Mo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fore The Jewish Council (Sanhedri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stayed in Jerusalem 12 day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ul escorted to Caesarea for safe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 was held in Caesarea for 2 yea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fore Felix (governor of Judea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fore Festus (successor to Felix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ul appeals to Caes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fore King Agrippa I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368C-9F0F-40BB-B810-9820756E601C}" type="slidenum">
              <a:t>13</a:t>
            </a:fld>
          </a:p>
        </p:txBody>
      </p:sp>
    </p:spTree>
  </p:cSld>
  <p:transition>
    <p:cover dir="r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aul’s Journey To Rome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and other prisoners left for Rome in a ship during a dangerous time of the ye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uke and Aristarchus were with Pau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were shipwrecked near the island of Melita (Malta); there they spent the win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uke probably wrote the last half of Acts during this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reached Rome the next spr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7A66-C39C-4AD6-82C8-52486169EED0}" type="slidenum">
              <a:t>14</a:t>
            </a:fld>
          </a:p>
        </p:txBody>
      </p:sp>
    </p:spTree>
  </p:cSld>
  <p:transition>
    <p:cover dir="r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772400" y="4495680"/>
            <a:ext cx="533520" cy="533520"/>
          </a:xfrm>
          <a:prstGeom prst="ellipse">
            <a:avLst/>
          </a:prstGeom>
          <a:noFill/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426708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ul’s Journey to R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D98-11F6-4897-A67A-7CEF1839B331}" type="slidenum">
              <a:t>15</a:t>
            </a:fld>
          </a:p>
        </p:txBody>
      </p:sp>
    </p:spTree>
  </p:cSld>
  <p:transition>
    <p:cover dir="r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2801E-006 C -0.00069 -0.0104 -3.88888999999998E-006 -0.02103 -0.00226 -0.03097 C -0.00399 -0.03814 -0.01163 -0.04946 -0.01163 -0.04946 C -0.01076 -0.05986 -0.01094 -0.07026 -0.0092 -0.08043 C -0.00347 -0.11394 -0.00469 -0.06795 -0.00469 -0.09892 E">
                                      <p:cBhvr>
                                        <p:cTn id="630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0.09891 C -0.01302 -0.11555 -0.01267 -0.1352 -0.02101 -0.15161 C -0.02378 -0.1627 -0.02483 -0.17448 -0.02795 -0.18558 C -0.02899 -0.18904 -0.03021 -0.1932 -0.03264 -0.19482 C -0.0368 -0.1976 -0.04201 -0.19644 -0.04653 -0.19806 C -0.05139 -0.19968 -0.06059 -0.2043 -0.06059 -0.2043 C -0.10017 -0.20106 -0.13958 -0.1939 -0.17917 -0.20106 C -0.18194 -0.20152 -0.18351 -0.20592 -0.18611 -0.2073 C -0.19305 -0.21123 -0.20434 -0.21655 -0.21163 -0.21655 E">
                                      <p:cBhvr>
                                        <p:cTn id="633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4000"/>
                            </p:stCondLst>
                            <p:childTnLst>
                              <p:par>
                                <p:cTn id="6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164 -0.21665 C -0.21407 -0.19329 -0.21111 -0.19283 -0.229 -0.1852 C -0.22952 -0.18774 -0.22917 -0.19144 -0.23108 -0.19306 C -0.23507 -0.19699 -0.24115 -0.1963 -0.24618 -0.19838 C -0.25834 -0.20855 -0.24688 -0.20046 -0.26771 -0.20624 C -0.27205 -0.20763 -0.28056 -0.21156 -0.28056 -0.21133 C -0.28924 -0.21063 -0.29809 -0.21202 -0.3066 -0.20878 C -0.30868 -0.20809 -0.30834 -0.2037 -0.30868 -0.20092 C -0.30973 -0.1889 -0.3099 -0.17641 -0.31094 -0.16416 C -0.31146 -0.15884 -0.3125 -0.15352 -0.31302 -0.14821 C -0.31389 -0.13942 -0.31216 -0.12994 -0.31528 -0.12185 C -0.3165 -0.11861 -0.32084 -0.11954 -0.32379 -0.1193 C -0.3316 -0.11792 -0.33959 -0.11746 -0.3474 -0.11653 C -0.35104 -0.11746 -0.35504 -0.11699 -0.35816 -0.1193 C -0.36042 -0.12069 -0.3625 -0.12717 -0.3625 -0.12717 E">
                                      <p:cBhvr>
                                        <p:cTn id="636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6000"/>
                            </p:stCondLst>
                            <p:childTnLst>
                              <p:par>
                                <p:cTn id="6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25 -0.12694 C -0.35816 -0.11214 -0.3625 -0.11144 -0.3717 -0.10335 C -0.3783 -0.07884 -0.38368 -0.0726 -0.40243 -0.06798 C -0.4165 -0.04948 -0.429 -0.05734 -0.4467 -0.06474 C -0.45157 -0.08208 -0.44549 -0.06636 -0.45608 -0.07954 C -0.46563 -0.09156 -0.45539 -0.09225 -0.47483 -0.10035 C -0.4915 -0.10751 -0.48455 -0.10289 -0.49601 -0.11214 C -0.50834 -0.13595 -0.5217 -0.15052 -0.54306 -0.15977 C -0.55348 -0.17341 -0.54792 -0.16509 -0.5592 -0.18636 C -0.56059 -0.18936 -0.56129 -0.19353 -0.56389 -0.19538 C -0.58212 -0.2104 -0.57257 -0.20486 -0.59202 -0.21272 C -0.60504 -0.21225 -0.61858 -0.21249 -0.63177 -0.21017 C -0.63664 -0.20925 -0.64115 -0.20601 -0.64549 -0.20416 C -0.65851 -0.19838 -0.67257 -0.19815 -0.68542 -0.19214 C -0.68889 -0.17919 -0.69184 -0.17896 -0.70174 -0.17457 C -0.704 -0.16162 -0.704 -0.16694 -0.704 -0.15977 E">
                                      <p:cBhvr>
                                        <p:cTn id="639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8000"/>
                            </p:stCondLst>
                            <p:childTnLst>
                              <p:par>
                                <p:cTn id="6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1389 -0.14537 C -0.71076 -0.14653 -0.70694 -0.14583 -0.70451 -0.14861 C -0.70191 -0.15138 -0.7 -0.18235 -0.69983 -0.18258 C -0.69844 -0.18743 -0.68906 -0.19044 -0.68594 -0.19182 C -0.68507 -0.19922 -0.68125 -0.21447 -0.68125 -0.22279 E">
                                      <p:cBhvr>
                                        <p:cTn id="642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8125 -0.22278 C -0.68299 -0.22972 -0.68386 -0.2526 -0.67882 -0.25699 C -0.67552 -0.25976 -0.66875 -0.25514 -0.66719 -0.25999 C -0.66389 -0.26947 -0.66719 -0.28056 -0.66719 -0.29096 E">
                                      <p:cBhvr>
                                        <p:cTn id="645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6719 -0.29097 C -0.66129 -0.31362 -0.67223 -0.33141 -0.68577 -0.34366 C -0.68976 -0.36007 -0.69792 -0.3737 -0.70209 -0.39011 C -0.70278 -0.39936 -0.70313 -0.4086 -0.70435 -0.41784 C -0.70469 -0.42108 -0.70678 -0.42385 -0.70678 -0.42709 C -0.70678 -0.43957 -0.70556 -0.45205 -0.70435 -0.4643 C -0.704 -0.46753 -0.70209 -0.47354 -0.70209 -0.47354 E">
                                      <p:cBhvr>
                                        <p:cTn id="648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0209 -0.47329 C -0.71372 -0.47884 -0.72396 -0.48532 -0.73438 -0.49364 C -0.7382 -0.49665 -0.74549 -0.50381 -0.74549 -0.50335 C -0.7467 -0.50705 -0.74792 -0.51075 -0.74948 -0.51399 C -0.75191 -0.51907 -0.75695 -0.52925 -0.75695 -0.52902 C -0.7592 -0.53826 -0.75677 -0.53665 -0.7625 -0.53665 E">
                                      <p:cBhvr>
                                        <p:cTn id="651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aul’s Imprisonment At Rome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was placed in a private house with one gua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continued to teach from the house for two yea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uring this time he wrot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phesi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ilippi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lossi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ilem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E9BA-F3FE-4F69-B1F5-780F6DE1F817}" type="slidenum">
              <a:t>16</a:t>
            </a:fld>
          </a:p>
        </p:txBody>
      </p:sp>
    </p:spTree>
  </p:cSld>
  <p:transition>
    <p:cover dir="r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ummary of Ephesians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ritten by Paul while a prisoner in R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 particular error or heresy address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messag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l spiritual blessings are in Chri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race, faith and unity of the Spirit emphasiz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ays for the believers to “walk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som to be applied in various relationship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Husbands and wiv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hildren and parent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ervants and master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E4C-9729-449C-A9A9-4B2E865F4021}" type="slidenum">
              <a:t>17</a:t>
            </a:fld>
          </a:p>
        </p:txBody>
      </p:sp>
    </p:spTree>
  </p:cSld>
  <p:transition>
    <p:cover dir="r"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ummary of Colossians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ritten by Paul while in prison in R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paphras had reported on the work at Colossa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Colossians were exposed to different types of false teachings – needed encour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encouraged them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know the true majesty of Christ and His pow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appreciate the characteristics of a Christia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old self as compared to the new self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understand their responsibilities to their househol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469E-D8F5-4297-BBF4-A77A882C945D}" type="slidenum">
              <a:t>18</a:t>
            </a:fld>
          </a:p>
        </p:txBody>
      </p:sp>
    </p:spTree>
  </p:cSld>
  <p:transition>
    <p:cover dir="r"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ummary of Philemon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582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dressed to Philemon, a member at Colossa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aints had been refreshed through Philemon’s faith and lo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esimus was Philemon’s sla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ul had converted Onesim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 had stolen from Philemon and ran away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ul appealed to Philemon to receive him as a brother in Chri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ul offered to pay Philemon for any lo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4FCF-20A2-4321-8547-11917AE880EA}" type="slidenum">
              <a:t>19</a:t>
            </a:fld>
          </a:p>
        </p:txBody>
      </p:sp>
    </p:spTree>
  </p:cSld>
  <p:transition>
    <p:cover dir="r"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aul’s Third Journey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D228-2836-4735-A5B8-0FF7D1BD570C}" type="slidenum">
              <a:t>2</a:t>
            </a:fld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ummary of Philippians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ritten by Paul to this Macedonian church to thank them for the “gifts” they sent hi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orted on his circumstan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couraged them to stand firm in the face of persecu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horted them to humility and un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mended Timothy and Epaphroditus to th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arned them about the Judaiz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minded them of their heavenly citizenshi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FAA6-57ED-4FFC-94F5-5E70FD2B453E}" type="slidenum">
              <a:t>20</a:t>
            </a:fld>
          </a:p>
        </p:txBody>
      </p:sp>
    </p:spTree>
  </p:cSld>
  <p:transition>
    <p:cover dir="r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ummary of 1st Timothy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instructed young Timoth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care for the growing church at Ephes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refute false teac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appoint church lead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so, how to deal with different group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omen – their dress and pla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Older and Young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dow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d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lav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85C2-0F87-402C-84EA-EA42BCA8E341}" type="slidenum">
              <a:t>21</a:t>
            </a:fld>
          </a:p>
        </p:txBody>
      </p:sp>
    </p:spTree>
  </p:cSld>
  <p:transition>
    <p:cover dir="r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ummary of Titus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itus: A young, uncircumcised Greek left in Crete during a fourth journe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had great confidence in hi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appoint elders in every c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watch for the false teach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teach the older, the younger, the serva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be an example in his own lif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teach Christians how to live and do good wor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reject the heretics (non-conformist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E10B-C26A-4E8A-83DB-87A49DF0073B}" type="slidenum">
              <a:t>22</a:t>
            </a:fld>
          </a:p>
        </p:txBody>
      </p:sp>
    </p:spTree>
  </p:cSld>
  <p:transition>
    <p:cover dir="r"/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ummary of 2nd Timothy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5328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’s last recorded let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  was lonely and in chai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Luke was with hi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 warned about the difficult times in the “last days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 was concerned about the churches during a time of persecution by Ner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monished Timothy to guard the gospel, to persevere in it, to keep on preaching it, and to suffer for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4F38-EED3-4F7D-917F-936306E50A14}" type="slidenum">
              <a:t>23</a:t>
            </a:fld>
          </a:p>
        </p:txBody>
      </p:sp>
    </p:spTree>
  </p:cSld>
  <p:transition>
    <p:cover dir="r"/>
  </p:transition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aul’s Death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1532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was again imprisoned in R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 was beheaded by Ner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time was about A.D. 65 or 6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 had confidence that a crown of righteousness was laid up for hi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d to all those who look for Christ’s com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 had done his job of preaching and offering salvation to the Genti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een chapters in Acts cover his 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teen of his letters included in the B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9A3F-FDF9-463C-9F8A-5A32432241D8}" type="slidenum">
              <a:t>24</a:t>
            </a:fld>
          </a:p>
        </p:txBody>
      </p:sp>
    </p:spTree>
  </p:cSld>
  <p:transition>
    <p:cover dir="r"/>
  </p:transition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8487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aul’s Third Missionary Journey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05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rted out by himsel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traveled through Galatia and Phryg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ngthening all the discip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 this journey he wrote more letters (books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lati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 Corinthi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 Corinthi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om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mporer Claudius died; Nero now reig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B7F7-3493-4C9F-91B8-877AA4BD457D}" type="slidenum">
              <a:t>3</a:t>
            </a:fld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8487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aul’s Third Missionary Journey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pollos met up with Aquila and Priscilla in Ephesus and Apollos was sent to Corin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ollos knew only John’s baptis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arrived in Ephes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ptized 12 men who knew only John’s baptis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 gave them the Holy Spiri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 preached 3 months in the synagogu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 was opposed by unbelieving Jew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EA3C-EB71-4184-8B73-0FAD1F55F77F}" type="slidenum">
              <a:t>4</a:t>
            </a:fld>
          </a:p>
        </p:txBody>
      </p:sp>
    </p:spTree>
  </p:cSld>
  <p:transition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udaizing teachers had influenced the chur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’s messag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re is no other gospel but what he preach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 received it from God; not from m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ustification is by faith in Christ not by works of the law (circumcision, etc.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rist freed the Jews from the bondage of the la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rist freed the Gentiles from idolat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iritual freedom does not include the desires of the fles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304920"/>
            <a:ext cx="78487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ummary of Galatia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0CFF-BB2B-4EB2-942B-A19EF6404E92}" type="slidenum">
              <a:t>5</a:t>
            </a:fld>
          </a:p>
        </p:txBody>
      </p:sp>
    </p:spTree>
  </p:cSld>
  <p:transition>
    <p:cover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preached in Ephesus in the school of Tyrannus for two year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d worked unusual miracles through Pau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 made plans to go to Jerusalem via Macedonia and Gree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 sent Timothy and Erastus ahea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 wanted to take a gift from the Gentile churches to the Jerusalem brethre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52280" y="304920"/>
            <a:ext cx="78487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aul Preaches In Ephesus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23C9-240E-4125-B9E0-9A6137077192}" type="slidenum">
              <a:t>6</a:t>
            </a:fld>
          </a:p>
        </p:txBody>
      </p:sp>
    </p:spTree>
  </p:cSld>
  <p:transition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8487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ummary of 1st Corinthians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ritten from Ephesus in spring of A.D. 5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rinth was known for open and unbridled immor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blems with Christian conduct in the church which Paul had to address 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visions, instability, jealousy, envy, lawsuits, marital difficulties, sexual immorality, misuse of spiritual gifts, abuse of the Lord’s supper, and false teaching  concerning the resurr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must have love one for anot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had written an earlier letter to them – 5:1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2A19-C279-4985-A0CC-066CBFDCD642}" type="slidenum">
              <a:t>7</a:t>
            </a:fld>
          </a:p>
        </p:txBody>
      </p:sp>
    </p:spTree>
  </p:cSld>
  <p:transition>
    <p:cover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8487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Trouble In Ephesus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metrius and the silversmiths made shrines to their goddess Dian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taught there are no gods made with han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s teaching affected the silversmiths’ profi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riot followed but the town clerk quieted the mo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left Ephesus after 3 years and went to Macedon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A62-8733-41F2-A059-B0E373105FC3}" type="slidenum">
              <a:t>8</a:t>
            </a:fld>
          </a:p>
        </p:txBody>
      </p:sp>
    </p:spTree>
  </p:cSld>
  <p:transition>
    <p:cover dir="r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8487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ummary of 2nd Corinthians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ritten from Macedonia on his way to Corin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was burden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y his affictions, persecutions and fea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y the delay in receiving a report from his first letter of rebuk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itus finally reached him with a good report!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explained in this letter 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d provides comfort in many way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need for generosity in giving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s apostleship and author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4C7E-C76A-4392-84B4-829C19B04F9B}" type="slidenum">
              <a:t>9</a:t>
            </a:fld>
          </a:p>
        </p:txBody>
      </p:sp>
    </p:spTree>
  </p:cSld>
  <p:transition>
    <p:cover dir="r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9T13:34:37Z</dcterms:created>
  <dc:creator>Don Vines</dc:creator>
  <dc:description/>
  <dc:language>en-US</dc:language>
  <cp:lastModifiedBy>Frank D Vines</cp:lastModifiedBy>
  <dcterms:modified xsi:type="dcterms:W3CDTF">2007-04-01T20:22:03Z</dcterms:modified>
  <cp:revision>24</cp:revision>
  <dc:subject/>
  <dc:title>Q12L22</dc:title>
</cp:coreProperties>
</file>